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F9E42-3561-40AF-B050-529B06679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24DD2-5364-4563-BD2F-BCC4D1B7A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ECB62-913B-476A-8A84-236990A9F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4C0A1-2AB3-46D9-8AEE-7ED31E7AF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9F48C-E8DE-4500-B53E-37101B759C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84379-2C06-4084-8E59-698783703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83CFA-7A0D-46D9-9F90-F2445106C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4E43E-4BA7-435F-8D4C-37877DCDA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09FB7-7B51-4FB6-9ABA-C9421F7E0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A64E6-D7D0-438A-ABF0-A027C495C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FDADA-7CC1-454D-BA14-97B59611D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E7299-EE77-40E3-BFE2-C65888307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AC517-6E98-4AA6-B1D6-1DEC94423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E1DB4-6116-45ED-A72F-AA0453681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F7F5C-BDA8-4148-BE6F-450758DC8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208B12-7BC1-425F-8898-3E29BC12A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9FCFE-C8C9-4ABD-B851-EB8F20176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680DB-99EB-49F7-96C3-1F4ED885C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3596F-28AC-4101-802E-B5C0D714A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61B92-6265-45D5-B985-AD3D669FE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ECC28-B31C-4335-833A-EE99E9F3E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E405E-60FB-44A2-957C-CC786F5CE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473F4-92E4-460B-8C4B-B0B3E8EE2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37901-7282-4FE5-8C94-1823BDB0F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ABD1-0740-4618-AA94-20E277A82E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B1E1-4010-45F6-9349-79FF5D18A9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Cover.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4" descr="Second_Page.jpg"/>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paring Your Students</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w DVD Parts 5 and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your learning buddy, identify 5–6 ground rules and any particular activities to teach and share these important behavi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on Note-Taking Guid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Second_Page.jpg"/>
          <p:cNvPicPr/>
          <p:nvPr/>
        </p:nvPicPr>
        <p:blipFill>
          <a:blip r:embed="rId1"/>
          <a:stretch/>
        </p:blipFill>
        <p:spPr>
          <a:xfrm>
            <a:off x="0" y="0"/>
            <a:ext cx="9144000" cy="6858000"/>
          </a:xfrm>
          <a:prstGeom prst="rect">
            <a:avLst/>
          </a:prstGeom>
          <a:ln w="0">
            <a:noFill/>
          </a:ln>
        </p:spPr>
      </p:pic>
      <p:sp>
        <p:nvSpPr>
          <p:cNvPr id="1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mplementing PBL</a:t>
            </a:r>
            <a:endParaRPr b="0" lang="en-US" sz="40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w DVD Part 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key points on Note-Taking Gui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content or grade level group, develop your own PBL “short exper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the PBL Planning Template handout to guide you through the process and to document the lesson you cre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4" descr="Second_Page.jpg"/>
          <p:cNvPicPr/>
          <p:nvPr/>
        </p:nvPicPr>
        <p:blipFill>
          <a:blip r:embed="rId1"/>
          <a:stretch/>
        </p:blipFill>
        <p:spPr>
          <a:xfrm>
            <a:off x="0" y="0"/>
            <a:ext cx="9144000" cy="6858000"/>
          </a:xfrm>
          <a:prstGeom prst="rect">
            <a:avLst/>
          </a:prstGeom>
          <a:ln w="0">
            <a:noFill/>
          </a:ln>
        </p:spPr>
      </p:pic>
      <p:sp>
        <p:nvSpPr>
          <p:cNvPr id="11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Keeping the Momentum Going:</a:t>
            </a:r>
            <a:br>
              <a:rPr sz="4000"/>
            </a:br>
            <a:r>
              <a:rPr b="1" lang="en-US" sz="4000" spc="-1" strike="noStrike">
                <a:solidFill>
                  <a:srgbClr val="000000"/>
                </a:solidFill>
                <a:latin typeface="Calibri"/>
              </a:rPr>
              <a:t>Creating a Culture in Your School</a:t>
            </a:r>
            <a:endParaRPr b="0" lang="en-US" sz="4000" spc="-1" strike="noStrike">
              <a:solidFill>
                <a:srgbClr val="000000"/>
              </a:solidFill>
              <a:latin typeface="Calibri"/>
            </a:endParaRPr>
          </a:p>
        </p:txBody>
      </p:sp>
      <p:sp>
        <p:nvSpPr>
          <p:cNvPr id="115" name=""/>
          <p:cNvSpPr txBox="1"/>
          <p:nvPr/>
        </p:nvSpPr>
        <p:spPr>
          <a:xfrm>
            <a:off x="457200" y="1828440"/>
            <a:ext cx="8229600" cy="3809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your table, discuss the following ques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made PBL successful in the schools featured toda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would make this successful in our school?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es our school climate or culture support PB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 on Keeping the Momentum Going handou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4" descr="Second_Page.jpg"/>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Keeping the Momentum Going:</a:t>
            </a:r>
            <a:br>
              <a:rPr sz="4000"/>
            </a:br>
            <a:r>
              <a:rPr b="1" lang="en-US" sz="4000" spc="-1" strike="noStrike">
                <a:solidFill>
                  <a:srgbClr val="000000"/>
                </a:solidFill>
                <a:latin typeface="Calibri"/>
              </a:rPr>
              <a:t>Creating a Culture in Your School (cont.)</a:t>
            </a:r>
            <a:endParaRPr b="0" lang="en-US" sz="4000" spc="-1" strike="noStrike">
              <a:solidFill>
                <a:srgbClr val="000000"/>
              </a:solidFill>
              <a:latin typeface="Calibri"/>
            </a:endParaRPr>
          </a:p>
        </p:txBody>
      </p:sp>
      <p:sp>
        <p:nvSpPr>
          <p:cNvPr id="118" name=""/>
          <p:cNvSpPr txBox="1"/>
          <p:nvPr/>
        </p:nvSpPr>
        <p:spPr>
          <a:xfrm>
            <a:off x="457200" y="1828440"/>
            <a:ext cx="822960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your table: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ly identify two ways to support a culture for PBL in your school.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 with the table and identify the two most compell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 and prioritize with your entire group to develop next steps for your school.</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 on Keeping the Momentum Going handou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3" descr="Second_Page.jpg"/>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osing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Second_Page.jpg"/>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Questions</a:t>
            </a:r>
            <a:endParaRPr b="0" lang="en-US" sz="40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 to your Question Collector hando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have any outstanding or lingering questions based on the content of today’s s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4" descr="Second_Page.jpg"/>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Arial"/>
              </a:rPr>
              <a:t>GO-GO-MO:  </a:t>
            </a:r>
            <a:br>
              <a:rPr sz="4000"/>
            </a:br>
            <a:r>
              <a:rPr b="1" lang="en-US" sz="4000" spc="-1" strike="noStrike">
                <a:solidFill>
                  <a:srgbClr val="000000"/>
                </a:solidFill>
                <a:latin typeface="Calibri"/>
                <a:ea typeface="Arial"/>
              </a:rPr>
              <a:t>Give One, Get One, Move On</a:t>
            </a:r>
            <a:endParaRPr b="0" lang="en-US" sz="4000" spc="-1" strike="noStrike">
              <a:solidFill>
                <a:srgbClr val="000000"/>
              </a:solidFill>
              <a:latin typeface="Calibri"/>
            </a:endParaRPr>
          </a:p>
        </p:txBody>
      </p:sp>
      <p:sp>
        <p:nvSpPr>
          <p:cNvPr id="126" name=""/>
          <p:cNvSpPr txBox="1"/>
          <p:nvPr/>
        </p:nvSpPr>
        <p:spPr>
          <a:xfrm>
            <a:off x="457200" y="18288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How will you use the content and processes shared today to support PBL in your classroom?</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ly, fill in the first three boxes with ways that you can apply the content in this session in your role as a classroom teache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 up and find others with whom to sh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 one idea away and get one idea from each person you meet. Your goal is to have a different idea in each box. Note them in the rest of the box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have completed all the boxes, sit dow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4" descr="Second_Page.jpg"/>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Arial"/>
              </a:rPr>
              <a:t>Thank you!</a:t>
            </a:r>
            <a:endParaRPr b="0" lang="en-US" sz="4000" spc="-1" strike="noStrike">
              <a:solidFill>
                <a:srgbClr val="000000"/>
              </a:solidFill>
              <a:latin typeface="Calibri"/>
            </a:endParaRPr>
          </a:p>
        </p:txBody>
      </p:sp>
      <p:sp>
        <p:nvSpPr>
          <p:cNvPr id="129" name="PlaceHolder 2"/>
          <p:cNvSpPr>
            <a:spLocks noGrp="1"/>
          </p:cNvSpPr>
          <p:nvPr>
            <p:ph type="subTitle"/>
          </p:nvPr>
        </p:nvSpPr>
        <p:spPr>
          <a:xfrm>
            <a:off x="1371600" y="5333760"/>
            <a:ext cx="6400800" cy="68580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10 ASCD. All rights reserv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4" descr="Second_Page.jpg"/>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genda</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come and review ground ru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desired outco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ator ac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w DV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BL planning ac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ing the momentum go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sing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4" descr="Second_Page.jpg"/>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sired Outcomes</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e session, participants will be able t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and define the key elements of problem-based learning (PB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planning principles to develop a PBL lesson and address how to prepare students for PB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gin/continue to implement PBL with a cohort or grade-level group of teach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4" descr="Second_Page.jpg"/>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und Rules</a:t>
            </a:r>
            <a:endParaRPr b="0" lang="en-US" sz="40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 responsibility for your own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e active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something is not clear, ask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 to lea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respectful of participants and presen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nor time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lence cell pho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4" descr="Second_Page.jpg"/>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ctivator:  Engaging Participants in PBL</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the Activator Activity handout as a guide and to document no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a problem pertinent to your school or district, and brainstorm solu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your PBL group, discuss some of the skills you utilized to solve the problem and how they support 21st century learn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these skills on your Note-Taking Guide hando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4" descr="Second_Page.jpg"/>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paring to Watch the DVD</a:t>
            </a:r>
            <a:endParaRPr b="0" lang="en-US" sz="40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 Collector hand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you progress through this workshop, write down questions you would like answered about the key ideas and strategies presented—especially how you can apply them to your own classroom, school, district, or other learning organ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4" descr="Second_Page.jpg"/>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oduction to PBL</a:t>
            </a: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w the DVD introduction and Part 1.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your learning buddy, discuss:  How do the skills you identified in the Activator activity compare with the skills demonstrated in the DVD 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of the skills do you want most to include in PBL for your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on Note-Taking Gui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4" descr="Second_Page.jpg"/>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lanning for PBL </a:t>
            </a:r>
            <a:endParaRPr b="0" lang="en-US" sz="40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w DVD Parts 2 and 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your learning buddy, discuss: How is the PBL described similar to or different from what you currently d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on Note-Taking Guid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4" descr="Second_Page.jpg"/>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ing the Key Question</a:t>
            </a:r>
            <a:endParaRPr b="0" lang="en-US" sz="40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w DVD Part 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your learning buddy, brainstorm 2–3 problems or key questions you may pose to your students with PBL (with any specific ideas for presentation; e.g., voice mail from expert, article, e-ma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on Note-Taking Guid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14:21:48Z</dcterms:created>
  <dc:creator>ASCD</dc:creator>
  <dc:description>This is the Secondary School version of the Power Point presentation. It is identical in content to the Elementary School version. </dc:description>
  <dc:language>en-US</dc:language>
  <cp:lastModifiedBy>North Rockland High School</cp:lastModifiedBy>
  <dcterms:modified xsi:type="dcterms:W3CDTF">2010-10-01T16:47:23Z</dcterms:modified>
  <cp:revision>52</cp:revision>
  <dc:subject>Problem-Based Learning</dc:subject>
  <dc:title>Problem-Based Learning for the 21st Century Classroom</dc:title>
</cp:coreProperties>
</file>